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9.png" ContentType="image/pn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B62C-021D-494C-AA14-BB240B999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6334-CC6E-48FF-B6D3-1740543A9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C2D7-CEE6-40C3-A85D-499F3AA7A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DFD8-CEAD-48C2-9FD1-34AD19238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CC82-5DA8-412B-AECE-EC5A85EB4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2949-C87A-4B75-B5AB-8FC9B7D86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9584-A34C-4951-B00C-E462A1E16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5682-9982-4C47-A896-3880A02EA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EAB8-95F9-4AA4-8C3B-241A9A4DB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064A-6347-4191-9FCC-EAE7FF150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B782-838E-4BE9-8D59-768FE45DA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2D48-CB69-40B0-A8B4-D098AEA00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C5E1-7084-4491-9009-F7BD27CBB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7A2D-4B3A-4D76-BFA2-293A2AE0D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CCB8-AA78-4110-8961-95B2C945A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90F6-5805-4070-8CA0-610F51EED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D175-2B73-4D87-9C31-3AC8C0E80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8D0E-D337-4C14-8426-17F28104B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BBB9-272D-47A3-AB62-719511B6D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6CA0-86FF-4E44-8E7D-33AD0D7BC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4328-B0D6-428D-90CD-3CF0DE368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CE9E-0F34-4A28-B78F-F6B718116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1983-EA34-436C-85EC-B34A4F562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5CF3-09E5-41AF-B02A-C44628543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F7F6-4127-423A-80C1-DABECE4AA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9C08-CC25-48ED-A247-4ED0637AA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55A0-2F26-48FB-A11D-782F4878A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FF9B-5B36-4FA2-938B-2FD508B5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8C27-6F51-4CEC-BDC0-F23FEEC03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A74A-AE75-4B45-9187-F41577746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07B8-DCFB-4425-BF63-A8B41D2E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1CD3-37A0-43A9-BD4C-891F9AD0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170B-245E-428B-88FA-0F37221C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1BAB-81DB-4A4F-A473-7D822199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E182-861A-4EDB-A56A-E9F79408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3066-BCF0-4716-9939-4F7D3F22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3D68-EBC8-4E6D-8F6C-8B59A3BF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3BCD-00B1-4350-8D18-4594CAAF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9B2B-6044-403A-98F8-8E09D1FA9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026"/>
          <p:cNvSpPr/>
          <p:nvPr/>
        </p:nvSpPr>
        <p:spPr>
          <a:xfrm>
            <a:off x="609480" y="228600"/>
            <a:ext cx="800100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e Wizard of O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y L. Frank Ba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027" descr="all1"/>
          <p:cNvPicPr/>
          <p:nvPr/>
        </p:nvPicPr>
        <p:blipFill>
          <a:blip r:embed="rId1"/>
          <a:stretch/>
        </p:blipFill>
        <p:spPr>
          <a:xfrm>
            <a:off x="533520" y="1523880"/>
            <a:ext cx="3990960" cy="4724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030"/>
          <p:cNvSpPr/>
          <p:nvPr/>
        </p:nvSpPr>
        <p:spPr>
          <a:xfrm>
            <a:off x="5257800" y="2362320"/>
            <a:ext cx="29718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uth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v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31"/>
          <p:cNvSpPr/>
          <p:nvPr/>
        </p:nvSpPr>
        <p:spPr>
          <a:xfrm>
            <a:off x="304920" y="6324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金梅鋼筆寬個性字"/>
              </a:rPr>
              <a:t>Made b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金梅鋼筆寬個性字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金梅鋼筆寬個性字"/>
              </a:rPr>
              <a:t>Stacy, Patty, May, S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vc1"/>
          <p:cNvPicPr/>
          <p:nvPr/>
        </p:nvPicPr>
        <p:blipFill>
          <a:blip r:embed="rId1"/>
          <a:stretch/>
        </p:blipFill>
        <p:spPr>
          <a:xfrm>
            <a:off x="2743200" y="0"/>
            <a:ext cx="566892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250920" y="1066680"/>
            <a:ext cx="2415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rrounded by eight of Frank’s early 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vc12"/>
          <p:cNvPicPr/>
          <p:nvPr/>
        </p:nvPicPr>
        <p:blipFill>
          <a:blip r:embed="rId1"/>
          <a:stretch/>
        </p:blipFill>
        <p:spPr>
          <a:xfrm>
            <a:off x="3581280" y="304920"/>
            <a:ext cx="4805640" cy="62481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457200" y="1143000"/>
            <a:ext cx="2666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iginal Artwork for the Wizard by Den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vc13"/>
          <p:cNvPicPr/>
          <p:nvPr/>
        </p:nvPicPr>
        <p:blipFill>
          <a:blip r:embed="rId1"/>
          <a:stretch/>
        </p:blipFill>
        <p:spPr>
          <a:xfrm>
            <a:off x="3733920" y="304920"/>
            <a:ext cx="4752720" cy="61722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457200" y="1143000"/>
            <a:ext cx="2666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iginal Artwork for the Wizard by Den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609480" y="914400"/>
            <a:ext cx="6553440" cy="54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rot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To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Scarec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3" descr="dorothy"/>
          <p:cNvPicPr/>
          <p:nvPr/>
        </p:nvPicPr>
        <p:blipFill>
          <a:blip r:embed="rId1"/>
          <a:stretch/>
        </p:blipFill>
        <p:spPr>
          <a:xfrm>
            <a:off x="3733920" y="1066680"/>
            <a:ext cx="3886200" cy="2791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scarecrow"/>
          <p:cNvPicPr/>
          <p:nvPr/>
        </p:nvPicPr>
        <p:blipFill>
          <a:blip r:embed="rId2"/>
          <a:stretch/>
        </p:blipFill>
        <p:spPr>
          <a:xfrm>
            <a:off x="4952880" y="3581280"/>
            <a:ext cx="3949920" cy="28656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609480" y="2286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 Black"/>
              </a:rPr>
              <a:t>Charac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7" descr="scarecrow 2"/>
          <p:cNvPicPr/>
          <p:nvPr/>
        </p:nvPicPr>
        <p:blipFill>
          <a:blip r:embed="rId3"/>
          <a:stretch/>
        </p:blipFill>
        <p:spPr>
          <a:xfrm>
            <a:off x="3581280" y="5181480"/>
            <a:ext cx="2210040" cy="14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533520" y="914400"/>
            <a:ext cx="29718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Tin Woods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Cowardly 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5" descr="tinman"/>
          <p:cNvPicPr/>
          <p:nvPr/>
        </p:nvPicPr>
        <p:blipFill>
          <a:blip r:embed="rId1"/>
          <a:stretch/>
        </p:blipFill>
        <p:spPr>
          <a:xfrm>
            <a:off x="3429000" y="1143000"/>
            <a:ext cx="3873600" cy="2838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lion"/>
          <p:cNvPicPr/>
          <p:nvPr/>
        </p:nvPicPr>
        <p:blipFill>
          <a:blip r:embed="rId2"/>
          <a:stretch/>
        </p:blipFill>
        <p:spPr>
          <a:xfrm>
            <a:off x="5029200" y="3581280"/>
            <a:ext cx="3873600" cy="2901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tin 2"/>
          <p:cNvPicPr/>
          <p:nvPr/>
        </p:nvPicPr>
        <p:blipFill>
          <a:blip r:embed="rId3"/>
          <a:stretch/>
        </p:blipFill>
        <p:spPr>
          <a:xfrm>
            <a:off x="6248520" y="380880"/>
            <a:ext cx="266688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5"/>
          <p:cNvSpPr/>
          <p:nvPr/>
        </p:nvSpPr>
        <p:spPr>
          <a:xfrm>
            <a:off x="0" y="685800"/>
            <a:ext cx="4114800" cy="59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The Wizard of O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The Witch of the W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Witch of the Sou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6" descr="wizard of east"/>
          <p:cNvPicPr/>
          <p:nvPr/>
        </p:nvPicPr>
        <p:blipFill>
          <a:blip r:embed="rId1"/>
          <a:stretch/>
        </p:blipFill>
        <p:spPr>
          <a:xfrm>
            <a:off x="3886200" y="3200400"/>
            <a:ext cx="3111480" cy="2286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good wizard"/>
          <p:cNvPicPr/>
          <p:nvPr/>
        </p:nvPicPr>
        <p:blipFill>
          <a:blip r:embed="rId2"/>
          <a:stretch/>
        </p:blipFill>
        <p:spPr>
          <a:xfrm>
            <a:off x="5638680" y="4495680"/>
            <a:ext cx="3276720" cy="2184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realman oz"/>
          <p:cNvPicPr/>
          <p:nvPr/>
        </p:nvPicPr>
        <p:blipFill>
          <a:blip r:embed="rId3"/>
          <a:stretch/>
        </p:blipFill>
        <p:spPr>
          <a:xfrm>
            <a:off x="5867280" y="838080"/>
            <a:ext cx="2822760" cy="2060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oz"/>
          <p:cNvPicPr/>
          <p:nvPr/>
        </p:nvPicPr>
        <p:blipFill>
          <a:blip r:embed="rId4"/>
          <a:stretch/>
        </p:blipFill>
        <p:spPr>
          <a:xfrm>
            <a:off x="4495680" y="838080"/>
            <a:ext cx="1371600" cy="16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327672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 Black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7592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orothy lives on a Kansas farm with her uncle Henry and Aunt Em and her little dog Toto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 frightening cyclone appears, Dorothy unable to reach the storm cellar in ti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1028" descr="dorothy and toto"/>
          <p:cNvPicPr/>
          <p:nvPr/>
        </p:nvPicPr>
        <p:blipFill>
          <a:blip r:embed="rId1"/>
          <a:srcRect l="6277" t="18732" r="3089" b="15642"/>
          <a:stretch/>
        </p:blipFill>
        <p:spPr>
          <a:xfrm>
            <a:off x="6227640" y="476280"/>
            <a:ext cx="2735280" cy="2166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29" descr="cyclone-1"/>
          <p:cNvPicPr/>
          <p:nvPr/>
        </p:nvPicPr>
        <p:blipFill>
          <a:blip r:embed="rId2"/>
          <a:srcRect l="17581" t="4272" r="18633" b="5324"/>
          <a:stretch/>
        </p:blipFill>
        <p:spPr>
          <a:xfrm>
            <a:off x="6300720" y="2852640"/>
            <a:ext cx="25909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39640" y="836280"/>
            <a:ext cx="3743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nding in the mysterious field in the country of the Munchki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house killing the Wicked Witch of the E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027" descr="people"/>
          <p:cNvPicPr/>
          <p:nvPr/>
        </p:nvPicPr>
        <p:blipFill>
          <a:blip r:embed="rId1"/>
          <a:stretch/>
        </p:blipFill>
        <p:spPr>
          <a:xfrm>
            <a:off x="4859280" y="404640"/>
            <a:ext cx="3527640" cy="2738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28" descr="people-1"/>
          <p:cNvPicPr/>
          <p:nvPr/>
        </p:nvPicPr>
        <p:blipFill>
          <a:blip r:embed="rId2"/>
          <a:stretch/>
        </p:blipFill>
        <p:spPr>
          <a:xfrm>
            <a:off x="4788000" y="3622680"/>
            <a:ext cx="374472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48243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 Witch of the North greeting Dorothy and gives her the silver sho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 good witch of the North recommending Dorothy follow the Yellow Brick Road to the city of Emeralds and asking the wizard of Oz to help h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3" descr="silver shoes-1"/>
          <p:cNvPicPr/>
          <p:nvPr/>
        </p:nvPicPr>
        <p:blipFill>
          <a:blip r:embed="rId1"/>
          <a:srcRect l="3122" t="16004" r="2235" b="17746"/>
          <a:stretch/>
        </p:blipFill>
        <p:spPr>
          <a:xfrm>
            <a:off x="5651640" y="260280"/>
            <a:ext cx="2736720" cy="2737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yellow brick road"/>
          <p:cNvPicPr/>
          <p:nvPr/>
        </p:nvPicPr>
        <p:blipFill>
          <a:blip r:embed="rId2"/>
          <a:srcRect l="14919" t="1413" r="16990" b="4962"/>
          <a:stretch/>
        </p:blipFill>
        <p:spPr>
          <a:xfrm>
            <a:off x="5796000" y="3141720"/>
            <a:ext cx="25668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23640" y="2565000"/>
            <a:ext cx="856908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orothy meet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 Scarecrow-a bra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 Tin Woodman- a hear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 Cowardly Lion- courage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 Wizard appearing each time as someone or something differ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3" descr="four of them"/>
          <p:cNvPicPr/>
          <p:nvPr/>
        </p:nvPicPr>
        <p:blipFill>
          <a:blip r:embed="rId1"/>
          <a:stretch/>
        </p:blipFill>
        <p:spPr>
          <a:xfrm>
            <a:off x="4284720" y="189000"/>
            <a:ext cx="455436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uth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. Frank Bau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(1856-1919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rn in 1856 at Chittenango, New Y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art condition is not g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timid and shy b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baum2"/>
          <p:cNvPicPr/>
          <p:nvPr/>
        </p:nvPicPr>
        <p:blipFill>
          <a:blip r:embed="rId1"/>
          <a:stretch/>
        </p:blipFill>
        <p:spPr>
          <a:xfrm>
            <a:off x="5867280" y="3276720"/>
            <a:ext cx="21909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4960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wizard agreeing to help each of them, but one of them must kill the Wicked Witch of the W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Wicked Witch’s attacks failed. Dorothy killing the bad witch, and getting the golden c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attack them-1"/>
          <p:cNvPicPr/>
          <p:nvPr/>
        </p:nvPicPr>
        <p:blipFill>
          <a:blip r:embed="rId1"/>
          <a:srcRect l="7887" t="5291" r="5291" b="5291"/>
          <a:stretch/>
        </p:blipFill>
        <p:spPr>
          <a:xfrm>
            <a:off x="768240" y="3789360"/>
            <a:ext cx="2795760" cy="2879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attack them"/>
          <p:cNvPicPr/>
          <p:nvPr/>
        </p:nvPicPr>
        <p:blipFill>
          <a:blip r:embed="rId2"/>
          <a:srcRect l="9103" t="6047" r="6638" b="3713"/>
          <a:stretch/>
        </p:blipFill>
        <p:spPr>
          <a:xfrm>
            <a:off x="5219640" y="3500280"/>
            <a:ext cx="295740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38880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ack to the Emerald City and discovering the truth of the Wizard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3" descr="wizard-curtain"/>
          <p:cNvPicPr/>
          <p:nvPr/>
        </p:nvPicPr>
        <p:blipFill>
          <a:blip r:embed="rId1"/>
          <a:stretch/>
        </p:blipFill>
        <p:spPr>
          <a:xfrm>
            <a:off x="4284720" y="1052640"/>
            <a:ext cx="4541760" cy="35636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684360" y="4869000"/>
            <a:ext cx="755964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he still agrees to give them what they wa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5280" y="3500280"/>
            <a:ext cx="403236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 Good Witch of the South may be able to send Dorothy and Toto home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3" descr="good witch"/>
          <p:cNvPicPr/>
          <p:nvPr/>
        </p:nvPicPr>
        <p:blipFill>
          <a:blip r:embed="rId1"/>
          <a:srcRect l="4699" t="14131" r="5948" b="16891"/>
          <a:stretch/>
        </p:blipFill>
        <p:spPr>
          <a:xfrm>
            <a:off x="4640400" y="3119400"/>
            <a:ext cx="3740040" cy="27813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755640" y="692280"/>
            <a:ext cx="7272360" cy="18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z have to take them home with him in hot air balloon again. But Dorothy and Toto miss the rising hot air balloon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764640"/>
            <a:ext cx="417492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 silver shoes Dorothy wears can take her anywher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3" descr="silver shoes"/>
          <p:cNvPicPr/>
          <p:nvPr/>
        </p:nvPicPr>
        <p:blipFill>
          <a:blip r:embed="rId1"/>
          <a:srcRect l="5258" t="23135" r="3483" b="20736"/>
          <a:stretch/>
        </p:blipFill>
        <p:spPr>
          <a:xfrm>
            <a:off x="4716360" y="620640"/>
            <a:ext cx="3743280" cy="25923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684360" y="3429000"/>
            <a:ext cx="7921440" cy="24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orothy and Toto returning to Kans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 Scarecrow - Leader of Emerald c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 Tin woodman - Leader of Wes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 Cowardly Lion - King to the forest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8960" y="990720"/>
            <a:ext cx="6213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 Black"/>
              </a:rPr>
              <a:t>Them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iend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ven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*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 see is to belie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can I help being a humbug when all these people make me do things   that everybody knows can’t be done?” said Oz.  (p.1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 Black"/>
              </a:rPr>
              <a:t>Symb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yellow brick r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rothy’s silver sho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yellow brick road"/>
          <p:cNvPicPr/>
          <p:nvPr/>
        </p:nvPicPr>
        <p:blipFill>
          <a:blip r:embed="rId1"/>
          <a:stretch/>
        </p:blipFill>
        <p:spPr>
          <a:xfrm>
            <a:off x="5105520" y="1905120"/>
            <a:ext cx="3276360" cy="1987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shoes"/>
          <p:cNvPicPr/>
          <p:nvPr/>
        </p:nvPicPr>
        <p:blipFill>
          <a:blip r:embed="rId2"/>
          <a:stretch/>
        </p:blipFill>
        <p:spPr>
          <a:xfrm>
            <a:off x="5105520" y="3962520"/>
            <a:ext cx="327636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. Frank Ba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 age 5: moved to Rose Lawn Estate, a country home near Chittenango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s father had made a fortune out of oi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ver used his first name (he preferred Fran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. Frank Ba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d fairy tales and British writers voraciously, especially enjoyed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Dicke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criticized the fairy tales that were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rightening and horrify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ank made the decision: he would write a different kind of fairy t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. Frank Ba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s parents sent him away to a strict military sch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ffering a heart attack or a nervous breakdow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ally withdraw from Peekskil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gan to nurture Frank’s creative inter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hildren’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" descr="vc3"/>
          <p:cNvPicPr/>
          <p:nvPr/>
        </p:nvPicPr>
        <p:blipFill>
          <a:blip r:embed="rId1"/>
          <a:stretch/>
        </p:blipFill>
        <p:spPr>
          <a:xfrm>
            <a:off x="4419720" y="1600200"/>
            <a:ext cx="4201920" cy="49957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"/>
          <p:cNvSpPr/>
          <p:nvPr/>
        </p:nvSpPr>
        <p:spPr>
          <a:xfrm>
            <a:off x="304920" y="2057400"/>
            <a:ext cx="3809880" cy="28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hildren's boo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Mother Goose In Pros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(189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Last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vc17t"/>
          <p:cNvPicPr/>
          <p:nvPr/>
        </p:nvPicPr>
        <p:blipFill>
          <a:blip r:embed="rId1"/>
          <a:stretch/>
        </p:blipFill>
        <p:spPr>
          <a:xfrm>
            <a:off x="5181480" y="1905120"/>
            <a:ext cx="3044880" cy="40384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3260880" y="2286000"/>
            <a:ext cx="549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228600" y="1981080"/>
            <a:ext cx="3962520" cy="38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Glinda of O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: (1920) Frank's fourteenth book in the Oz s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ed in 1919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 his home in Hollywood,Californi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vc9p1"/>
          <p:cNvPicPr/>
          <p:nvPr/>
        </p:nvPicPr>
        <p:blipFill>
          <a:blip r:embed="rId1"/>
          <a:stretch/>
        </p:blipFill>
        <p:spPr>
          <a:xfrm>
            <a:off x="3352680" y="457200"/>
            <a:ext cx="5292720" cy="64008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380880" y="914400"/>
            <a:ext cx="289584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blished in September 19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ed by W.W. Den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vertising Po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vc10"/>
          <p:cNvPicPr/>
          <p:nvPr/>
        </p:nvPicPr>
        <p:blipFill>
          <a:blip r:embed="rId1"/>
          <a:stretch/>
        </p:blipFill>
        <p:spPr>
          <a:xfrm>
            <a:off x="1371600" y="1698480"/>
            <a:ext cx="655308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13:18:00Z</dcterms:created>
  <dc:creator>Patty</dc:creator>
  <dc:description/>
  <dc:language>en-US</dc:language>
  <cp:lastModifiedBy>Elisa</cp:lastModifiedBy>
  <dcterms:modified xsi:type="dcterms:W3CDTF">2009-11-05T17:45:39Z</dcterms:modified>
  <cp:revision>24</cp:revision>
  <dc:subject/>
  <dc:title>PowerPoint 簡報</dc:title>
</cp:coreProperties>
</file>